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C7F-AE43-4F62-89B7-F9829741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110-01DF-472F-9606-5C53017F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191-438A-4841-A7DD-19F48946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FA2-D35C-4018-927E-D61579FE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6FD-9C8D-46F7-BFF4-5F70C5E6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3F1-2A9D-4324-B749-9D564F0E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212-B6A3-4B26-9BB5-EA6710C9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1A8-17D2-43D1-982E-21F4B2FF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696-AC2E-4524-B334-6FC2F236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0F6-42CD-456E-A12C-65DFF02E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2A9-3BD1-4BA0-9763-09E5D6D8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069-0247-4BF4-9D7A-0935FE79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C0A3-A9FC-4C01-A580-5FF3DDAFD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DESIGN BR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 TAC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layers take turns marking their symbol (X or O) in one square of a 9-square grid.  The first player to get three of his/her symbols in a row Vertically, Horizontally, or Diagonally is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8:14:20Z</dcterms:created>
  <dc:creator>bhunt</dc:creator>
  <dc:description/>
  <dc:language>en-US</dc:language>
  <cp:lastModifiedBy>bhunt</cp:lastModifiedBy>
  <dcterms:modified xsi:type="dcterms:W3CDTF">2011-08-29T18:46:44Z</dcterms:modified>
  <cp:revision>2</cp:revision>
  <dc:subject/>
  <dc:title>GAME DESIGN BRIEF</dc:title>
</cp:coreProperties>
</file>